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AE0-60C8-48EE-A726-29640051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9393-F25C-4EF9-A192-916FB6A6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8379-D84D-4BAE-A77D-B6DFE0B1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FD2F-2CA7-4FD1-B9F6-686EAE557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AD4-A029-47A0-A3C4-6EEAD8E3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774A-7CC1-490A-B894-75E755F83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EF3F-BF5D-47FE-BD04-C3AE8D05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59A-636D-4DC9-A003-31EDA3EF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3B1A-3318-4CB9-8E9A-B069D7B87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7AA3-0B66-42A8-A041-F14DF84C7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17C-95DB-4946-AEDC-DB9C1D38E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E8C-CCD2-47C2-A53B-E20C9C2DF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CAB1-A37F-4209-9221-351DD0359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819A-CE21-40AC-A8AD-138A0894D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C43-A16D-412C-8C35-883EC1B6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38F8-C0E5-4358-A2E8-D1618C183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8C73-86C5-435F-823A-A47A2F97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149A-83A7-4472-A60C-B0306A860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A6CA-A683-472E-90D8-3B41A950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67D7-B6BB-47FA-8D64-78619AF3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02D-5402-4CA8-B296-C14FE6C5F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6326-1532-4026-9891-7A4D3F7A9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E21F-04F0-48F5-9C13-0E18680E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DE0-512D-4EB7-AB23-245A0E33F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D68C-2988-4916-8079-D1998083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5377-8B6A-43FF-A4A2-29B4BB4E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0F4-3EC7-4DC7-BF14-FD3CB9FD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C84-49F1-4DE1-8FDE-A08848BD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2621-B6C2-4615-AAB6-E8C03CC65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516-9B0D-4BAC-9F82-9866D7933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5D98-3A86-4B1D-8ED6-30AE109BA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D38-92D1-4221-9344-1CD8259D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3658-E878-4B1D-9D5F-6FC7F64BC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351-934D-4E03-8F9D-ED944EEAB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2AE9-82D9-485C-8726-FD87A42E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A624-24C6-4E37-B11C-5010B49C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5CC8-51C4-45B8-A462-61168F56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D1A4-AC55-4692-BFCF-A9ABFC72E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83FF-73AA-4F2C-B60B-9733343F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EDFF-6C5D-4746-BA68-E0A0F232B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A628-70ED-427E-9CAE-2DB8A3F44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6C6-9EF8-45E0-A9F4-DA9832B32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1825-EAB0-4773-B637-08298070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E671-9315-49A8-A0F6-22F553CFF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D257-97FB-421F-9940-CFD96D16C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754-50B4-43B1-83B3-4B5B5A0C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BEF9-BBCB-4332-91C6-5E73C144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9ADF-E47D-4C10-9B56-F15E7E8F3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C723-8FA2-4F18-95D8-3AA06F91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E87-4951-42B7-BDB4-5E144AEEB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3430-913C-45D2-960D-2A5CCBDB1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C3B1-65D6-4D3D-84FC-ED2E8945A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F5A-E3CE-4077-AEA1-DD8F3941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8E5-6576-4357-84D5-7EB78C90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1C3-2EAC-4E2F-A549-247E1198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09C-2646-4C4A-A60C-DCE4FC78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C9E-BAAC-487A-83E8-32672D5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8F7-6B6C-4E05-9782-863338B5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EB8-405A-47D9-9B6C-B8F4BD53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83F-41FE-473B-A65B-F160D1D5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75D-89C5-43A9-BD3F-C0E45863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2E1-CABD-4C9D-AE40-A78DFA8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BE4-7AE8-4894-A16F-A8C70A9B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F4A-8206-461B-9E5B-9AB863D8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AA7F-2EFA-41FB-B8B3-7479CE72A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Th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it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ricul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amp; soci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This act required goods to be shipped on British merchant vessel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avigation Ac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y experienced a “golden age” in the 1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entury in part due to an economy based on shipping and commer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Dutch Republic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belief that the universe functions like a quality clock and doesn’t require god’s interven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4678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Deism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se English kings made up the buns of the Cromwell sandwich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are James I and James I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057" descr="lg_pp1934kingjamesi"/>
          <p:cNvPicPr/>
          <p:nvPr/>
        </p:nvPicPr>
        <p:blipFill>
          <a:blip r:embed="rId1"/>
          <a:stretch/>
        </p:blipFill>
        <p:spPr>
          <a:xfrm>
            <a:off x="2209680" y="3276720"/>
            <a:ext cx="2319480" cy="267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59" descr="james_2"/>
          <p:cNvPicPr/>
          <p:nvPr/>
        </p:nvPicPr>
        <p:blipFill>
          <a:blip r:embed="rId2"/>
          <a:stretch/>
        </p:blipFill>
        <p:spPr>
          <a:xfrm>
            <a:off x="4800600" y="3276720"/>
            <a:ext cx="236844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group of people in Eastern Europe successfully challenged the power of monarchs and increased serfdo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o are landlords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057" descr="a serf"/>
          <p:cNvPicPr/>
          <p:nvPr/>
        </p:nvPicPr>
        <p:blipFill>
          <a:blip r:embed="rId1"/>
          <a:stretch/>
        </p:blipFill>
        <p:spPr>
          <a:xfrm>
            <a:off x="5257800" y="2666880"/>
            <a:ext cx="142560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59" descr="Are you a landlord"/>
          <p:cNvPicPr/>
          <p:nvPr/>
        </p:nvPicPr>
        <p:blipFill>
          <a:blip r:embed="rId2"/>
          <a:stretch/>
        </p:blipFill>
        <p:spPr>
          <a:xfrm>
            <a:off x="1828800" y="3124080"/>
            <a:ext cx="2800440" cy="209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Nametwo ideas/events prepared England for the Industrial Revolutio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Events that promoted the sharing of enlightenment ideas while enjoy the fashion, literature and music of the age (women hosts prefered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4"/>
          <p:cNvSpPr/>
          <p:nvPr/>
        </p:nvSpPr>
        <p:spPr>
          <a:xfrm>
            <a:off x="762120" y="685800"/>
            <a:ext cx="7848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at is a salon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Year the Martin Luther posted the 95 These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1517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33" descr="luther"/>
          <p:cNvPicPr/>
          <p:nvPr/>
        </p:nvPicPr>
        <p:blipFill>
          <a:blip r:embed="rId1"/>
          <a:stretch/>
        </p:blipFill>
        <p:spPr>
          <a:xfrm rot="180000">
            <a:off x="4038120" y="2666880"/>
            <a:ext cx="3810240" cy="29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37" descr="martin_luther_by_cranach"/>
          <p:cNvPicPr/>
          <p:nvPr/>
        </p:nvPicPr>
        <p:blipFill>
          <a:blip r:embed="rId2"/>
          <a:stretch/>
        </p:blipFill>
        <p:spPr>
          <a:xfrm>
            <a:off x="1143000" y="1981080"/>
            <a:ext cx="2946240" cy="419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embers of this order of priests are known for their education, vow of loyalty to the pope, and dedication to furthering the Catholic fai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the Jesuit order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Jesuits.JPG (28847 bytes)"/>
          <p:cNvPicPr/>
          <p:nvPr/>
        </p:nvPicPr>
        <p:blipFill>
          <a:blip r:embed="rId1"/>
          <a:stretch/>
        </p:blipFill>
        <p:spPr>
          <a:xfrm>
            <a:off x="2362320" y="2971800"/>
            <a:ext cx="4343400" cy="32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n his book, 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Institutes of the Christian Religion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, this religious theologian argued that God’s grace is bestowed on only the few who are predestined fo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o is John Calvin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[John Calvin]"/>
          <p:cNvPicPr/>
          <p:nvPr/>
        </p:nvPicPr>
        <p:blipFill>
          <a:blip r:embed="rId1"/>
          <a:stretch/>
        </p:blipFill>
        <p:spPr>
          <a:xfrm>
            <a:off x="2743200" y="2057400"/>
            <a:ext cx="35244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When the pope refused to annul his marriage to Katherine of Aragon, King Henry VIII of England started this form of Protestantism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Anglicanism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portrait9"/>
          <p:cNvPicPr/>
          <p:nvPr/>
        </p:nvPicPr>
        <p:blipFill>
          <a:blip r:embed="rId1"/>
          <a:stretch/>
        </p:blipFill>
        <p:spPr>
          <a:xfrm>
            <a:off x="2819520" y="1676520"/>
            <a:ext cx="3551040" cy="46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4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Putting-out, Agricultural revolution, Enclosure Ac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Henry of Navarre, born a Protestant, famously uttered these words before converting to Catholicism to promote peace in his realm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“Paris is well worth a mass”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two countries pioneered the Agricultural Revolution in Western Europe in the 1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and 18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enturi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are the Netherlands and England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Primary factor leading to the population explosion of the 18</a:t>
            </a:r>
            <a:r>
              <a:rPr b="0" lang="en-US" sz="5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an increase in the food supply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MCj03312820000[1]"/>
          <p:cNvPicPr/>
          <p:nvPr/>
        </p:nvPicPr>
        <p:blipFill>
          <a:blip r:embed="rId1"/>
          <a:stretch/>
        </p:blipFill>
        <p:spPr>
          <a:xfrm>
            <a:off x="2895480" y="3581280"/>
            <a:ext cx="3183120" cy="252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Land left unplanted so that it can regain its fertility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at is the fallow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MPj04021120000[1]"/>
          <p:cNvPicPr/>
          <p:nvPr/>
        </p:nvPicPr>
        <p:blipFill>
          <a:blip r:embed="rId1"/>
          <a:stretch/>
        </p:blipFill>
        <p:spPr>
          <a:xfrm>
            <a:off x="2133720" y="2514600"/>
            <a:ext cx="4892400" cy="326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When future generations leave the family estate to create new residenc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neo-localism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688 event that cemented Parliaments’ control in Engl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0773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An English fencing movement, but not with swords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enclosure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2" descr="MPj04071810000[1]"/>
          <p:cNvPicPr/>
          <p:nvPr/>
        </p:nvPicPr>
        <p:blipFill>
          <a:blip r:embed="rId1"/>
          <a:stretch/>
        </p:blipFill>
        <p:spPr>
          <a:xfrm>
            <a:off x="2209680" y="2438280"/>
            <a:ext cx="4740480" cy="315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t movement shown bel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033" descr=""/>
          <p:cNvPicPr/>
          <p:nvPr/>
        </p:nvPicPr>
        <p:blipFill>
          <a:blip r:embed="rId1"/>
          <a:stretch/>
        </p:blipFill>
        <p:spPr>
          <a:xfrm>
            <a:off x="2190600" y="2438280"/>
            <a:ext cx="4762800" cy="349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48765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Baroque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amous late Renaissance Brit who wrote plays and po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is William Shakespea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2762280" cy="440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tter writing “Father of Humanism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o is Petrarch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743720" cy="395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0866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Palace that inspired countless others and served as Europe’s cultural cent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at is Versailles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2724120"/>
            <a:ext cx="2755800" cy="4133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160800" y="2971800"/>
            <a:ext cx="4734000" cy="31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What is the Glorious Revolut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Provide three examples of Renaissance 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Answers will vary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ublished in 1776, this famous economic work discussed the ideas of rational self-interest in a free market econom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What is Adam Smith’s </a:t>
            </a:r>
            <a:r>
              <a:rPr b="0" i="1" lang="en-US" sz="6200" spc="-1" strike="noStrike">
                <a:solidFill>
                  <a:srgbClr val="000000"/>
                </a:solidFill>
                <a:latin typeface="Times New Roman"/>
              </a:rPr>
              <a:t>Wealth of Nations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105" descr="WealthNations"/>
          <p:cNvPicPr/>
          <p:nvPr/>
        </p:nvPicPr>
        <p:blipFill>
          <a:blip r:embed="rId1"/>
          <a:stretch/>
        </p:blipFill>
        <p:spPr>
          <a:xfrm>
            <a:off x="4952880" y="1066680"/>
            <a:ext cx="3581640" cy="428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demographer and political economist believed that population would eventually outrun the food suppl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Who is Thomas Malthus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Kuenzi</cp:lastModifiedBy>
  <dcterms:modified xsi:type="dcterms:W3CDTF">2017-01-13T05:02:09Z</dcterms:modified>
  <cp:revision>46</cp:revision>
  <dc:subject/>
  <dc:title>No Slide Title</dc:title>
</cp:coreProperties>
</file>